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553-95CD-443D-A881-4E8CDA54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F3F-A816-4ABC-8953-169594F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10C-5B9D-4E24-A91D-BBEA8954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9E4-9003-479A-B9EB-F15662DF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CD6-95E8-4221-B3E5-52BDB61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91C-8540-43BC-B659-C23706E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89E-6AB4-4162-B894-8821172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18F-DFE0-4BA1-A9CF-C98437E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E7A-28E9-42A8-8FCA-472FC7F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BFA-2453-4B51-8D73-1790AA3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C36-D0FE-4A38-9507-D753AA7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8E6-5754-44A8-8DA3-F03D7B0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F7D-BDAD-4B73-B252-ED719855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sent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rcRect l="1234" t="0" r="0" b="0"/>
          <a:stretch/>
        </p:blipFill>
        <p:spPr>
          <a:xfrm>
            <a:off x="1692360" y="1162080"/>
            <a:ext cx="5851440" cy="569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219640" y="3881520"/>
            <a:ext cx="2820960" cy="917640"/>
            <a:chOff x="5219640" y="3881520"/>
            <a:chExt cx="2820960" cy="917640"/>
          </a:xfrm>
        </p:grpSpPr>
        <p:sp>
          <p:nvSpPr>
            <p:cNvPr id="44" name=""/>
            <p:cNvSpPr/>
            <p:nvPr/>
          </p:nvSpPr>
          <p:spPr>
            <a:xfrm>
              <a:off x="521964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9652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1964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9616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20524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374840"/>
            <a:ext cx="5753160" cy="543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ture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88000" y="3881520"/>
            <a:ext cx="2820960" cy="917640"/>
            <a:chOff x="4788000" y="3881520"/>
            <a:chExt cx="2820960" cy="917640"/>
          </a:xfrm>
        </p:grpSpPr>
        <p:sp>
          <p:nvSpPr>
            <p:cNvPr id="52" name=""/>
            <p:cNvSpPr/>
            <p:nvPr/>
          </p:nvSpPr>
          <p:spPr>
            <a:xfrm>
              <a:off x="478800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6488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8800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452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7360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960" y="5300640"/>
            <a:ext cx="2155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3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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9:55:53Z</dcterms:created>
  <dc:creator>J.E Campagne</dc:creator>
  <dc:description/>
  <dc:language>en-US</dc:language>
  <cp:lastModifiedBy>J.E Campagne</cp:lastModifiedBy>
  <dcterms:modified xsi:type="dcterms:W3CDTF">2005-07-28T13:21:47Z</dcterms:modified>
  <cp:revision>4</cp:revision>
  <dc:subject/>
  <dc:title>Present Constraint on mb, mbb &amp; S </dc:title>
</cp:coreProperties>
</file>